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FAA-68A9-4AE5-9D4C-D1D061DF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1312-A79D-47F5-B636-12C271A1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F9A-C31B-435F-AF3B-13D5E0C0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1A8-C0BD-425E-8A0E-76C1CF1E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E60-2193-4795-8D8B-3B27136C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9AE3-5BDA-42C6-AC0F-14FC4D51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4E3-1ECF-46D6-8DB2-2D0030E7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F77-111F-4008-A0DE-7BD67051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9B7-D8D9-4E9D-9E5A-6034542F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DB9-1E8D-4CEC-95E2-AE8AEF3A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E65-B618-4676-95EF-50BAFCB5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106-03CE-475D-8B79-03149873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60F4-E3A2-4889-839D-715B058CC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a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of Malta is Vallet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79132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Flag of Ma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31828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Map of Mal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638360"/>
            <a:ext cx="7286760" cy="521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the sport that Malta play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1638360"/>
            <a:ext cx="4762800" cy="521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emple in Mal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3:05Z</dcterms:created>
  <dc:creator>lslibrary</dc:creator>
  <dc:description/>
  <dc:language>en-US</dc:language>
  <cp:lastModifiedBy>lslibrary</cp:lastModifiedBy>
  <dcterms:modified xsi:type="dcterms:W3CDTF">2009-05-06T14:34:27Z</dcterms:modified>
  <cp:revision>2</cp:revision>
  <dc:subject/>
  <dc:title>Malta</dc:title>
</cp:coreProperties>
</file>