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D00-C68A-48B4-AEDB-3CE03900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F37-3882-42D8-A37A-E837BCF3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5AA-F6E2-4D3E-B48A-2BBF36E9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C71-6CDE-45B0-B046-1AC60F67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E19-D7F4-486A-BF08-8F4641C9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B9C-268A-4BBE-BD59-9E89C77B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B3E-DACF-4D59-9128-09DF94C2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C3B-C6BF-4979-AF66-F7A2106B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F826-6B02-498C-8D7B-8A0940F9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912-8A2F-4E1F-AB2D-C848C2D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EC0-4B76-4D40-9830-9A3D849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462-B444-4F73-918D-BB98F064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EC15-DA9E-47A5-8A39-A6347FBCF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p.greenwichmeantime.com/time-zone/europe/european-union/lithuania/images/lithuania-flag.gif&amp;imgrefurl=http://wwp.greenwichmeantime.com/time-zone/europe/european-union/lithuania/flag.htm&amp;h=302&amp;w=453&amp;sz=1&amp;tbnid=JOrKwE2_uL0aKM::&amp;tbnh=85&amp;tbnw=127&amp;prev=/images%3Fq%3Dlithuania%2Bflag&amp;usg=__OUnCvCsbFR2ifRAbkNoxoJ6I15s=&amp;ei=ppwBSoeaKYrYMKjXsdcH&amp;sa=X&amp;oi=image_result&amp;resnum=1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rlz=1T4GGIE_enUS321US321&amp;ei=2Z0BSvbUGoScMrHXyeIH&amp;resnum=0&amp;q=lithuania+map&amp;um=1&amp;ie=UTF-8&amp;split=0&amp;gl=us&amp;ei=3p0BSr2WC4vEMYWa2do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l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thuania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p.greenwichmeantime.com/time-zone/europe/european-union/lithuania/flag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514600"/>
            <a:ext cx="3429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one is the Lithuani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666880"/>
            <a:ext cx="4038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sports for Lithu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78000"/>
            <a:ext cx="4343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one of their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 Basils, Moscow"/>
          <p:cNvPicPr/>
          <p:nvPr/>
        </p:nvPicPr>
        <p:blipFill>
          <a:blip r:embed="rId1"/>
          <a:stretch/>
        </p:blipFill>
        <p:spPr>
          <a:xfrm>
            <a:off x="2514600" y="3048120"/>
            <a:ext cx="3581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part of the Lithuania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some of the Lithuania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old beet soup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ouse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remises for sale Lithuania, Vilniaus m. sav."/>
          <p:cNvPicPr/>
          <p:nvPr/>
        </p:nvPicPr>
        <p:blipFill>
          <a:blip r:embed="rId1"/>
          <a:stretch/>
        </p:blipFill>
        <p:spPr>
          <a:xfrm>
            <a:off x="2743200" y="22860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7Z</dcterms:created>
  <dc:creator>lslibrary</dc:creator>
  <dc:description/>
  <dc:language>en-US</dc:language>
  <cp:lastModifiedBy>lslibrary</cp:lastModifiedBy>
  <dcterms:modified xsi:type="dcterms:W3CDTF">2009-05-20T14:36:26Z</dcterms:modified>
  <cp:revision>4</cp:revision>
  <dc:subject/>
  <dc:title>Lithuania</dc:title>
</cp:coreProperties>
</file>