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6094-E809-4AB7-992C-49E3CD3D8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CC57-6DC5-4F56-A0F3-7AE84E2C8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7C19-D9C4-4A99-B3F1-F78D57E75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20E1-0901-4D96-B70B-F975E95E6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32E7-A9AA-413B-B76F-F57161DD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AA3C-9F68-4AB1-8C35-0CF36C621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DA26-C7B0-4D1D-A2EA-E9B94E70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2488-69BD-42B1-B35B-59A3AEE0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6D05-9BC9-4A69-9090-3D9AD56C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7F7F-BE73-46BB-B531-078325B0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C204-E436-41A8-BD15-9EC80B6D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000F-C73F-45E4-9086-5615B2D4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5964-FF20-45D6-8314-829DD6465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p.greenwichmeantime.com/time-zone/europe/european-union/lithuania/images/lithuania-flag.gif&amp;imgrefurl=http://wwp.greenwichmeantime.com/time-zone/europe/european-union/lithuania/flag.htm&amp;h=302&amp;w=453&amp;sz=1&amp;tbnid=JOrKwE2_uL0aKM::&amp;tbnh=85&amp;tbnw=127&amp;prev=/images%3Fq%3Dlithuania%2Bflag&amp;usg=__OUnCvCsbFR2ifRAbkNoxoJ6I15s=&amp;ei=ppwBSoeaKYrYMKjXsdcH&amp;sa=X&amp;oi=image_result&amp;resnum=1&amp;ct=imag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maps.google.com/maps?hl=en&amp;rlz=1T4GGIE_enUS321US321&amp;ei=2Z0BSvbUGoScMrHXyeIH&amp;resnum=0&amp;q=lithuania+map&amp;um=1&amp;ie=UTF-8&amp;split=0&amp;gl=us&amp;ei=3p0BSr2WC4vEMYWa2doH&amp;sa=X&amp;oi=geocode_result&amp;ct=image&amp;resnum=1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hua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ital is Viln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Lithuania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http://wwp.greenwichmeantime.com/time-zone/europe/european-union/lithuania/flag.ht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2514600"/>
            <a:ext cx="342900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one is the Lithuania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2666880"/>
            <a:ext cx="403884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se are the sports for Lithua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57400" y="3078000"/>
            <a:ext cx="43434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one of their holid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St Basils, Moscow"/>
          <p:cNvPicPr/>
          <p:nvPr/>
        </p:nvPicPr>
        <p:blipFill>
          <a:blip r:embed="rId1"/>
          <a:stretch/>
        </p:blipFill>
        <p:spPr>
          <a:xfrm>
            <a:off x="2514600" y="3048120"/>
            <a:ext cx="358128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part of the Lithuania 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666880" y="266688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some of the Lithuania f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Cold beet soup"/>
          <p:cNvPicPr/>
          <p:nvPr/>
        </p:nvPicPr>
        <p:blipFill>
          <a:blip r:embed="rId1"/>
          <a:stretch/>
        </p:blipFill>
        <p:spPr>
          <a:xfrm>
            <a:off x="2209680" y="1981080"/>
            <a:ext cx="449604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house in Lithua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Premises for sale Lithuania, Vilniaus m. sav."/>
          <p:cNvPicPr/>
          <p:nvPr/>
        </p:nvPicPr>
        <p:blipFill>
          <a:blip r:embed="rId1"/>
          <a:stretch/>
        </p:blipFill>
        <p:spPr>
          <a:xfrm>
            <a:off x="2743200" y="2286000"/>
            <a:ext cx="3276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4:21:27Z</dcterms:created>
  <dc:creator>lslibrary</dc:creator>
  <dc:description/>
  <dc:language>en-US</dc:language>
  <cp:lastModifiedBy>lslibrary</cp:lastModifiedBy>
  <dcterms:modified xsi:type="dcterms:W3CDTF">2009-05-20T14:36:26Z</dcterms:modified>
  <cp:revision>4</cp:revision>
  <dc:subject/>
  <dc:title>Lithuania</dc:title>
</cp:coreProperties>
</file>