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E65-19DD-40B0-9F35-702A4B68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047-6CED-405E-B7D3-AD3E9954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46E-BC97-4CEE-BB51-37448BE9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980-2B9E-4304-95AD-ABC011D1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659-3CCD-4D68-8403-E4529320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67C-7C4A-4476-8ED4-B18BD856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CC2-9CAF-4AF7-A8E7-62AAB302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B33-EEA1-449A-9F08-048E9A45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140-3873-4ABD-AB21-96EC4733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538-9303-4E75-B0C8-3CB082C3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2D3-4A65-465A-933B-A7A8E6EE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C25-791C-4166-9098-5E078AFB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8A59-BBD8-409E-8089-2CF58592F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p.greenwichmeantime.com/time-zone/europe/european-union/lithuania/images/lithuania-flag.gif&amp;imgrefurl=http://wwp.greenwichmeantime.com/time-zone/europe/european-union/lithuania/flag.htm&amp;h=302&amp;w=453&amp;sz=1&amp;tbnid=JOrKwE2_uL0aKM::&amp;tbnh=85&amp;tbnw=127&amp;prev=/images%3Fq%3Dlithuania%2Bflag&amp;usg=__OUnCvCsbFR2ifRAbkNoxoJ6I15s=&amp;ei=ppwBSoeaKYrYMKjXsdcH&amp;sa=X&amp;oi=image_result&amp;resnum=1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rlz=1T4GGIE_enUS321US321&amp;ei=2Z0BSvbUGoScMrHXyeIH&amp;resnum=0&amp;q=lithuania+map&amp;um=1&amp;ie=UTF-8&amp;split=0&amp;gl=us&amp;ei=3p0BSr2WC4vEMYWa2do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l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thuania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p.greenwichmeantime.com/time-zone/europe/european-union/lithuania/flag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514600"/>
            <a:ext cx="3429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one is the Lithuani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666880"/>
            <a:ext cx="4038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sports for Lithu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78000"/>
            <a:ext cx="4343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one of their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 Basils, Moscow"/>
          <p:cNvPicPr/>
          <p:nvPr/>
        </p:nvPicPr>
        <p:blipFill>
          <a:blip r:embed="rId1"/>
          <a:stretch/>
        </p:blipFill>
        <p:spPr>
          <a:xfrm>
            <a:off x="2514600" y="3048120"/>
            <a:ext cx="3581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part of the Lithuania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some of the Lithuania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old beet soup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ouse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remises for sale Lithuania, Vilniaus m. sav."/>
          <p:cNvPicPr/>
          <p:nvPr/>
        </p:nvPicPr>
        <p:blipFill>
          <a:blip r:embed="rId1"/>
          <a:stretch/>
        </p:blipFill>
        <p:spPr>
          <a:xfrm>
            <a:off x="2743200" y="22860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7Z</dcterms:created>
  <dc:creator>lslibrary</dc:creator>
  <dc:description/>
  <dc:language>en-US</dc:language>
  <cp:lastModifiedBy>lslibrary</cp:lastModifiedBy>
  <dcterms:modified xsi:type="dcterms:W3CDTF">2009-05-20T14:36:26Z</dcterms:modified>
  <cp:revision>4</cp:revision>
  <dc:subject/>
  <dc:title>Lithuania</dc:title>
</cp:coreProperties>
</file>