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8968-2D0D-4F44-9121-68202FE9F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732-E078-4C0F-91EB-6F91D2D3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F9A-04BF-4F52-9D92-5879E7A4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A408-C300-4AA1-A4E4-A9CC96D13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8252-78FD-4845-A136-1FFA9346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A338-0652-45CD-B63D-8A6A551A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0769-20CF-4F11-AEB2-A0196D56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621D-0E58-4BF0-B5F3-231C7E55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C1E6-99F5-4AB6-9F2A-14EEDA99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48E-D4C5-4352-81ED-0C348D3F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882E-D040-4A9C-A556-EBE48DF0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C05-8A68-463F-A1FB-45A4CD8F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A3D76-D2D5-40A5-B465-5468F90A8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p.greenwichmeantime.com/time-zone/europe/european-union/lithuania/images/lithuania-flag.gif&amp;imgrefurl=http://wwp.greenwichmeantime.com/time-zone/europe/european-union/lithuania/flag.htm&amp;h=302&amp;w=453&amp;sz=1&amp;tbnid=JOrKwE2_uL0aKM::&amp;tbnh=85&amp;tbnw=127&amp;prev=/images%3Fq%3Dlithuania%2Bflag&amp;usg=__OUnCvCsbFR2ifRAbkNoxoJ6I15s=&amp;ei=ppwBSoeaKYrYMKjXsdcH&amp;sa=X&amp;oi=image_result&amp;resnum=1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rlz=1T4GGIE_enUS321US321&amp;ei=2Z0BSvbUGoScMrHXyeIH&amp;resnum=0&amp;q=lithuania+map&amp;um=1&amp;ie=UTF-8&amp;split=0&amp;gl=us&amp;ei=3p0BSr2WC4vEMYWa2doH&amp;sa=X&amp;oi=geocode_result&amp;ct=image&amp;resnum=1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il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Lithuania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wwp.greenwichmeantime.com/time-zone/europe/european-union/lithuania/flag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514600"/>
            <a:ext cx="3429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one is the Lithuania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666880"/>
            <a:ext cx="40388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sports for Lithu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78000"/>
            <a:ext cx="4343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one of their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 Basils, Moscow"/>
          <p:cNvPicPr/>
          <p:nvPr/>
        </p:nvPicPr>
        <p:blipFill>
          <a:blip r:embed="rId1"/>
          <a:stretch/>
        </p:blipFill>
        <p:spPr>
          <a:xfrm>
            <a:off x="2514600" y="3048120"/>
            <a:ext cx="35812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part of the Lithuania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some of the Lithuania 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Cold beet soup"/>
          <p:cNvPicPr/>
          <p:nvPr/>
        </p:nvPicPr>
        <p:blipFill>
          <a:blip r:embed="rId1"/>
          <a:stretch/>
        </p:blipFill>
        <p:spPr>
          <a:xfrm>
            <a:off x="2209680" y="1981080"/>
            <a:ext cx="44960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ouse in 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remises for sale Lithuania, Vilniaus m. sav."/>
          <p:cNvPicPr/>
          <p:nvPr/>
        </p:nvPicPr>
        <p:blipFill>
          <a:blip r:embed="rId1"/>
          <a:stretch/>
        </p:blipFill>
        <p:spPr>
          <a:xfrm>
            <a:off x="2743200" y="228600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27Z</dcterms:created>
  <dc:creator>lslibrary</dc:creator>
  <dc:description/>
  <dc:language>en-US</dc:language>
  <cp:lastModifiedBy>lslibrary</cp:lastModifiedBy>
  <dcterms:modified xsi:type="dcterms:W3CDTF">2009-05-20T14:36:26Z</dcterms:modified>
  <cp:revision>4</cp:revision>
  <dc:subject/>
  <dc:title>Lithuania</dc:title>
</cp:coreProperties>
</file>