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580-1C5C-4533-9268-4F2018E1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7B9-46AF-491D-9B2B-7F1756CB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72D-A400-4958-BC68-BAE6711B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2A6-45F8-4985-96E7-791E6C4C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F9D-1B5C-438D-BC3C-260EF382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21D-452D-4E93-BDC2-61C1D4D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371-93E6-4754-9F9F-70D3E29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793-3995-4F68-AF9F-992CD1F2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822-997D-404E-B117-E183006C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140-712E-4685-A514-35547C4A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88D-6E14-49AD-9889-D1342D4D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1D2-50AD-4FBB-A81D-B6BE5D49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9848-B4DB-4A86-8DE9-8C4B192A5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p.greenwichmeantime.com/time-zone/europe/european-union/lithuania/images/lithuania-flag.gif&amp;imgrefurl=http://wwp.greenwichmeantime.com/time-zone/europe/european-union/lithuania/flag.htm&amp;h=302&amp;w=453&amp;sz=1&amp;tbnid=JOrKwE2_uL0aKM::&amp;tbnh=85&amp;tbnw=127&amp;prev=/images%3Fq%3Dlithuania%2Bflag&amp;usg=__OUnCvCsbFR2ifRAbkNoxoJ6I15s=&amp;ei=ppwBSoeaKYrYMKjXsdcH&amp;sa=X&amp;oi=image_result&amp;resnum=1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rlz=1T4GGIE_enUS321US321&amp;ei=2Z0BSvbUGoScMrHXyeIH&amp;resnum=0&amp;q=lithuania+map&amp;um=1&amp;ie=UTF-8&amp;split=0&amp;gl=us&amp;ei=3p0BSr2WC4vEMYWa2do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thuania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p.greenwichmeantime.com/time-zone/europe/european-union/lithuania/fla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514600"/>
            <a:ext cx="3429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one is the Lithuani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666880"/>
            <a:ext cx="4038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sports for Lithu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78000"/>
            <a:ext cx="4343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ne of their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 Basils, Moscow"/>
          <p:cNvPicPr/>
          <p:nvPr/>
        </p:nvPicPr>
        <p:blipFill>
          <a:blip r:embed="rId1"/>
          <a:stretch/>
        </p:blipFill>
        <p:spPr>
          <a:xfrm>
            <a:off x="2514600" y="3048120"/>
            <a:ext cx="3581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part of the Lithuania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some of the Lithuania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ld beet soup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ouse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remises for sale Lithuania, Vilniaus m. sav."/>
          <p:cNvPicPr/>
          <p:nvPr/>
        </p:nvPicPr>
        <p:blipFill>
          <a:blip r:embed="rId1"/>
          <a:stretch/>
        </p:blipFill>
        <p:spPr>
          <a:xfrm>
            <a:off x="274320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7Z</dcterms:created>
  <dc:creator>lslibrary</dc:creator>
  <dc:description/>
  <dc:language>en-US</dc:language>
  <cp:lastModifiedBy>lslibrary</cp:lastModifiedBy>
  <dcterms:modified xsi:type="dcterms:W3CDTF">2009-05-20T14:36:26Z</dcterms:modified>
  <cp:revision>4</cp:revision>
  <dc:subject/>
  <dc:title>Lithuania</dc:title>
</cp:coreProperties>
</file>