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B132-51B2-4065-986D-F90D0E0BA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CA4-FC82-48C7-99BC-0A692F17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95E9-08E0-46E8-B9C2-41C2002B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932F-4B9B-42F6-A1B3-104C9A4F1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9F03-6B37-45A8-860F-90DF4DF2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41B-3D15-4C6F-BFDC-A39B0FA5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02D-6EA0-4860-9037-D8D24CA4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0F75-8C42-4F97-BB67-3ACF23D7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CF1-7594-40EE-8A59-727AEDF2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BB6E-A963-496B-A61C-483C933E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1106-FD28-4732-B680-7781F07B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C9DF-A302-488C-AB13-086A23D9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F02B-4C0F-463C-B91B-84A700E83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p.greenwichmeantime.com/time-zone/europe/european-union/lithuania/images/lithuania-flag.gif&amp;imgrefurl=http://wwp.greenwichmeantime.com/time-zone/europe/european-union/lithuania/flag.htm&amp;h=302&amp;w=453&amp;sz=1&amp;tbnid=JOrKwE2_uL0aKM::&amp;tbnh=85&amp;tbnw=127&amp;prev=/images%3Fq%3Dlithuania%2Bflag&amp;usg=__OUnCvCsbFR2ifRAbkNoxoJ6I15s=&amp;ei=ppwBSoeaKYrYMKjXsdcH&amp;sa=X&amp;oi=image_result&amp;resnum=1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ps.google.com/maps?hl=en&amp;rlz=1T4GGIE_enUS321US321&amp;ei=2Z0BSvbUGoScMrHXyeIH&amp;resnum=0&amp;q=lithuania+map&amp;um=1&amp;ie=UTF-8&amp;split=0&amp;gl=us&amp;ei=3p0BSr2WC4vEMYWa2doH&amp;sa=X&amp;oi=geocode_result&amp;ct=image&amp;resnum=1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is Vil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Lithuania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wwp.greenwichmeantime.com/time-zone/europe/european-union/lithuania/flag.ht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514600"/>
            <a:ext cx="3429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one is the Lithuania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2666880"/>
            <a:ext cx="403884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re the sports for Lithuan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057400" y="3078000"/>
            <a:ext cx="43434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one of their holid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St Basils, Moscow"/>
          <p:cNvPicPr/>
          <p:nvPr/>
        </p:nvPicPr>
        <p:blipFill>
          <a:blip r:embed="rId1"/>
          <a:stretch/>
        </p:blipFill>
        <p:spPr>
          <a:xfrm>
            <a:off x="2514600" y="3048120"/>
            <a:ext cx="35812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part of the Lithuania c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666880" y="26668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some of the Lithuania f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Cold beet soup"/>
          <p:cNvPicPr/>
          <p:nvPr/>
        </p:nvPicPr>
        <p:blipFill>
          <a:blip r:embed="rId1"/>
          <a:stretch/>
        </p:blipFill>
        <p:spPr>
          <a:xfrm>
            <a:off x="2209680" y="1981080"/>
            <a:ext cx="449604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house in Lithuan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Premises for sale Lithuania, Vilniaus m. sav."/>
          <p:cNvPicPr/>
          <p:nvPr/>
        </p:nvPicPr>
        <p:blipFill>
          <a:blip r:embed="rId1"/>
          <a:stretch/>
        </p:blipFill>
        <p:spPr>
          <a:xfrm>
            <a:off x="2743200" y="2286000"/>
            <a:ext cx="327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27Z</dcterms:created>
  <dc:creator>lslibrary</dc:creator>
  <dc:description/>
  <dc:language>en-US</dc:language>
  <cp:lastModifiedBy>lslibrary</cp:lastModifiedBy>
  <dcterms:modified xsi:type="dcterms:W3CDTF">2009-05-20T14:36:26Z</dcterms:modified>
  <cp:revision>4</cp:revision>
  <dc:subject/>
  <dc:title>Lithuania</dc:title>
</cp:coreProperties>
</file>