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A855-54C5-4883-94A1-3582711D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D47-EDB0-4775-9B3F-013BBBEF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D2F-45B9-407A-9C46-E30691C6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E020-CCCB-4677-8234-0D00FF18C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6024-7DE7-473A-91A4-A7BE9FBB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1DA6-64EA-44D4-929C-C409CF96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638E-3EDF-43E0-8E52-413AD490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60B0-5B3F-41E5-A29D-689C97D5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43F2-2004-4B6D-A784-AEE0AB9E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331-1962-4B5D-90D3-8A502E28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8C1-C270-459F-B9EE-FAF623EA1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B33-6B74-4AD8-B4F3-814035C5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BA89-0D89-449B-BA50-A2E19E501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mapsofworld.com/images/world-countries-flags/liechtenstein-flag.gif&amp;imgrefurl=http://fr.mapsofworld.com/flags/liechtenstein-flag.html&amp;h=265&amp;w=390&amp;sz=7&amp;tbnid=40dOmXnY2MENxM::&amp;tbnh=84&amp;tbnw=123&amp;prev=/images%3Fq%3Dliechtenstein%2Bflag&amp;usg=___Ph9UeLl1u29W_p8E7eAGpqYAPw=&amp;ei=nJwBSuy_KoHwMo_B_dgH&amp;sa=X&amp;oi=image_result&amp;resnum=2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chtensti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Vaduz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Liechtenstein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ttp://fr.mapsofworld.com/flags/liechtenstein-flag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2590920"/>
            <a:ext cx="30006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map of Liechs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https://www.cia.gov/library/publications/the-world-factbook/geos/ls.html"/>
          <p:cNvPicPr/>
          <p:nvPr/>
        </p:nvPicPr>
        <p:blipFill>
          <a:blip r:embed="rId1"/>
          <a:stretch/>
        </p:blipFill>
        <p:spPr>
          <a:xfrm>
            <a:off x="2587680" y="2362320"/>
            <a:ext cx="26431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Sports in Liechtenstein: a success story, despite a hesitant start"/>
          <p:cNvPicPr/>
          <p:nvPr/>
        </p:nvPicPr>
        <p:blipFill>
          <a:blip r:embed="rId1"/>
          <a:stretch/>
        </p:blipFill>
        <p:spPr>
          <a:xfrm>
            <a:off x="2514600" y="2819520"/>
            <a:ext cx="2914560" cy="1968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orts of Liechtens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048120" y="1676520"/>
            <a:ext cx="31716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echtens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80010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1:30Z</dcterms:created>
  <dc:creator>lslibrary</dc:creator>
  <dc:description/>
  <dc:language>en-US</dc:language>
  <cp:lastModifiedBy>lslibrary</cp:lastModifiedBy>
  <dcterms:modified xsi:type="dcterms:W3CDTF">2009-05-20T14:49:00Z</dcterms:modified>
  <cp:revision>4</cp:revision>
  <dc:subject/>
  <dc:title>Liechtenstein</dc:title>
</cp:coreProperties>
</file>