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0AB-9BED-4AE8-933C-B380DAB6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D96-3FF5-403C-83A0-569B8202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00F-D38F-4269-9627-98525250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2AF-CBBB-476F-936B-C6048F84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C9F-DBA4-4EDB-B5C5-4399A0CF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3CB-DBE0-430C-B331-648C1A77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E7A-F6D3-4E1A-B59D-7956843C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FDD-5113-438F-B32C-D61D125F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790-705F-4F14-A581-EA332658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8C3-0162-4A44-B981-8870D243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EE8-5DF5-4901-9E31-80F1F200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576-2E1D-4739-AAFF-66EE9889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EA4C-7F98-4F90-B8F2-47DFAF9D6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apsofworld.com/images/world-countries-flags/liechtenstein-flag.gif&amp;imgrefurl=http://fr.mapsofworld.com/flags/liechtenstein-flag.html&amp;h=265&amp;w=390&amp;sz=7&amp;tbnid=40dOmXnY2MENxM::&amp;tbnh=84&amp;tbnw=123&amp;prev=/images%3Fq%3Dliechtenstein%2Bflag&amp;usg=___Ph9UeLl1u29W_p8E7eAGpqYAPw=&amp;ei=nJwBSuy_KoHwMo_B_dgH&amp;sa=X&amp;oi=image_result&amp;resnum=2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chtenst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adu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Liechtenstein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fr.mapsofworld.com/flags/liechtenstein-flag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590920"/>
            <a:ext cx="30006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Liech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https://www.cia.gov/library/publications/the-world-factbook/geos/ls.html"/>
          <p:cNvPicPr/>
          <p:nvPr/>
        </p:nvPicPr>
        <p:blipFill>
          <a:blip r:embed="rId1"/>
          <a:stretch/>
        </p:blipFill>
        <p:spPr>
          <a:xfrm>
            <a:off x="2587680" y="2362320"/>
            <a:ext cx="2643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Sports in Liechtenstein: a success story, despite a hesitant start"/>
          <p:cNvPicPr/>
          <p:nvPr/>
        </p:nvPicPr>
        <p:blipFill>
          <a:blip r:embed="rId1"/>
          <a:stretch/>
        </p:blipFill>
        <p:spPr>
          <a:xfrm>
            <a:off x="2514600" y="2819520"/>
            <a:ext cx="2914560" cy="1968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orts of Liechten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3171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chten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001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30Z</dcterms:created>
  <dc:creator>lslibrary</dc:creator>
  <dc:description/>
  <dc:language>en-US</dc:language>
  <cp:lastModifiedBy>lslibrary</cp:lastModifiedBy>
  <dcterms:modified xsi:type="dcterms:W3CDTF">2009-05-20T14:49:00Z</dcterms:modified>
  <cp:revision>4</cp:revision>
  <dc:subject/>
  <dc:title>Liechtenstein</dc:title>
</cp:coreProperties>
</file>