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3C70-7665-496D-BC57-7254F72D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027-3327-43D0-B819-21843FAA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44D-6D79-43C5-812D-93879E785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74BA-8CD5-4BCD-A428-19244A56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E8A-3692-4F72-B764-D102B03C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C2C1-B639-4B78-B787-52CBE2D3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3068-B9F4-4A9B-8D92-824CA4B7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F1DD-53B3-47D7-839E-C3A7841A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CA40-6DA6-47F7-9964-128DAAC3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DF8-2C41-4111-8362-731270BF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44C4-2EED-476D-BF56-EA1B6F87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AE0E-D01F-484D-9334-49115789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ED30-A902-4D0E-8CA7-EE833C251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mapsofworld.com/images/world-countries-flags/liechtenstein-flag.gif&amp;imgrefurl=http://fr.mapsofworld.com/flags/liechtenstein-flag.html&amp;h=265&amp;w=390&amp;sz=7&amp;tbnid=40dOmXnY2MENxM::&amp;tbnh=84&amp;tbnw=123&amp;prev=/images%3Fq%3Dliechtenstein%2Bflag&amp;usg=___Ph9UeLl1u29W_p8E7eAGpqYAPw=&amp;ei=nJwBSuy_KoHwMo_B_dgH&amp;sa=X&amp;oi=image_result&amp;resnum=2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chtenst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Vadu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Liechtenstein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ttp://fr.mapsofworld.com/flags/liechtenstein-flag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590920"/>
            <a:ext cx="30006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map of Liechs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https://www.cia.gov/library/publications/the-world-factbook/geos/ls.html"/>
          <p:cNvPicPr/>
          <p:nvPr/>
        </p:nvPicPr>
        <p:blipFill>
          <a:blip r:embed="rId1"/>
          <a:stretch/>
        </p:blipFill>
        <p:spPr>
          <a:xfrm>
            <a:off x="2587680" y="2362320"/>
            <a:ext cx="2643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Sports in Liechtenstein: a success story, despite a hesitant start"/>
          <p:cNvPicPr/>
          <p:nvPr/>
        </p:nvPicPr>
        <p:blipFill>
          <a:blip r:embed="rId1"/>
          <a:stretch/>
        </p:blipFill>
        <p:spPr>
          <a:xfrm>
            <a:off x="2514600" y="2819520"/>
            <a:ext cx="2914560" cy="1968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orts of Liechtens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3171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chtens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001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1:30Z</dcterms:created>
  <dc:creator>lslibrary</dc:creator>
  <dc:description/>
  <dc:language>en-US</dc:language>
  <cp:lastModifiedBy>lslibrary</cp:lastModifiedBy>
  <dcterms:modified xsi:type="dcterms:W3CDTF">2009-05-20T14:49:00Z</dcterms:modified>
  <cp:revision>4</cp:revision>
  <dc:subject/>
  <dc:title>Liechtenstein</dc:title>
</cp:coreProperties>
</file>