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12D-78A5-4CE9-BD14-56093A65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011-0C33-42C1-8DFE-6E4244AA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399-F3A9-45E9-BCB4-3FCB5A8C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AA6-BA05-45B0-B5D2-F701444D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4E2-6C0B-4CEC-AA7E-D50BFB98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DD65-F82D-4E45-B079-B6DC4807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B5D4-9D9F-400E-A7B8-6ED7E9D0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BE1-F766-42F8-A47C-79C9FA79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E23-D638-4917-93AE-97B0E912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206B-4554-4730-A387-B45AA505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87A-4BF8-45A6-865C-91C1633A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7DC-016F-46CD-92AC-5578DEC9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5B99-E4AC-410C-B56D-6FD0E4516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mapsofworld.com/images/world-countries-flags/liechtenstein-flag.gif&amp;imgrefurl=http://fr.mapsofworld.com/flags/liechtenstein-flag.html&amp;h=265&amp;w=390&amp;sz=7&amp;tbnid=40dOmXnY2MENxM::&amp;tbnh=84&amp;tbnw=123&amp;prev=/images%3Fq%3Dliechtenstein%2Bflag&amp;usg=___Ph9UeLl1u29W_p8E7eAGpqYAPw=&amp;ei=nJwBSuy_KoHwMo_B_dgH&amp;sa=X&amp;oi=image_result&amp;resnum=2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chtenst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Vadu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Liechtenstein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http://fr.mapsofworld.com/flags/liechtenstein-flag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590920"/>
            <a:ext cx="30006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map of Liechs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https://www.cia.gov/library/publications/the-world-factbook/geos/ls.html"/>
          <p:cNvPicPr/>
          <p:nvPr/>
        </p:nvPicPr>
        <p:blipFill>
          <a:blip r:embed="rId1"/>
          <a:stretch/>
        </p:blipFill>
        <p:spPr>
          <a:xfrm>
            <a:off x="2587680" y="2362320"/>
            <a:ext cx="2643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Sports in Liechtenstein: a success story, despite a hesitant start"/>
          <p:cNvPicPr/>
          <p:nvPr/>
        </p:nvPicPr>
        <p:blipFill>
          <a:blip r:embed="rId1"/>
          <a:stretch/>
        </p:blipFill>
        <p:spPr>
          <a:xfrm>
            <a:off x="2514600" y="2819520"/>
            <a:ext cx="2914560" cy="1968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orts of Liechtens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3171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chtens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001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1:30Z</dcterms:created>
  <dc:creator>lslibrary</dc:creator>
  <dc:description/>
  <dc:language>en-US</dc:language>
  <cp:lastModifiedBy>lslibrary</cp:lastModifiedBy>
  <dcterms:modified xsi:type="dcterms:W3CDTF">2009-05-20T14:49:00Z</dcterms:modified>
  <cp:revision>4</cp:revision>
  <dc:subject/>
  <dc:title>Liechtenstein</dc:title>
</cp:coreProperties>
</file>