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F88B-1614-4B72-874A-F38009260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8DEA-2CB8-4E62-8D4D-AB7E9C1D8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5D2C-D002-4F49-8FC2-0BED5E80F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5948-39F5-4C99-BCDC-96CDDC927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FDE0-DD49-48CE-8222-7234A02EA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46AB-F101-4D69-ACC8-4F4323CC9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2DFA-AEE3-4F7B-B926-6DF36AC01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C4C7-03F9-4B00-B34A-19D2309A1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9B48-F91F-42D8-B310-F42F73F40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AEFA-3720-49DD-99A0-2048BE260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6FDE-E626-4A34-AC74-13DD2323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5FF2-2A89-40FA-8BE7-3300CDF2C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85FCF-77B8-4AC0-A1CB-54F2E960A3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lgari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pital city is Bruss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my countries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 rot="234600">
            <a:off x="1263600" y="2334960"/>
            <a:ext cx="678168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Map of Bulgaria"/>
          <p:cNvPicPr/>
          <p:nvPr/>
        </p:nvPicPr>
        <p:blipFill>
          <a:blip r:embed="rId1"/>
          <a:stretch/>
        </p:blipFill>
        <p:spPr>
          <a:xfrm>
            <a:off x="228600" y="1371600"/>
            <a:ext cx="8610480" cy="51055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re is a map of Bulg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6T14:24:04Z</dcterms:created>
  <dc:creator>lslibrary</dc:creator>
  <dc:description/>
  <dc:language>en-US</dc:language>
  <cp:lastModifiedBy>lslibrary</cp:lastModifiedBy>
  <dcterms:modified xsi:type="dcterms:W3CDTF">2009-05-14T17:54:43Z</dcterms:modified>
  <cp:revision>3</cp:revision>
  <dc:subject/>
  <dc:title>Bulgaria </dc:title>
</cp:coreProperties>
</file>