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42CB-7515-4BFF-BF16-A220005C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BBC1-CDC5-4A53-9BB3-A96D2627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EABC-D2B4-4993-9D06-FAF34542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3A3A-7099-45DE-9FF0-672A1DD8D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8469-DA63-4040-91F5-AF43DBE0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AD1D-57C4-4DFC-B711-DB719CF3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7338-546B-41B4-A2E6-BFDA69E0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2688-EFFC-40DA-9B01-367534D8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B99E-831D-43AD-9511-CF8F20FB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A489-7BB4-44D2-B4E8-C54C6B93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D82E-6478-4397-AE07-03B104B4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E2C3-21C8-455C-BAE6-836CD5B0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433E-8F3C-41E9-B15F-F1E662389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lgar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city is Bruss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my countries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 rot="234600">
            <a:off x="1263600" y="2334960"/>
            <a:ext cx="67816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Map of Bulgaria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5105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e is a map of Bulg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4:04Z</dcterms:created>
  <dc:creator>lslibrary</dc:creator>
  <dc:description/>
  <dc:language>en-US</dc:language>
  <cp:lastModifiedBy>lslibrary</cp:lastModifiedBy>
  <dcterms:modified xsi:type="dcterms:W3CDTF">2009-05-14T17:54:43Z</dcterms:modified>
  <cp:revision>3</cp:revision>
  <dc:subject/>
  <dc:title>Bulgaria </dc:title>
</cp:coreProperties>
</file>