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922-9A9E-4984-85D3-DB1801B9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E76-6FF9-4085-964F-93574D5D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170-FD4D-4523-ADF6-44504BAE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006-AD0E-4443-8C5D-2132BED3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73D-025C-4C6E-8D05-856CD21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00-F3B8-4FE7-915F-0562B45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4E5-422C-4113-B3B3-E36C227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663-08E2-46B7-8904-3AFD38C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7A7-A309-42A5-B118-7EBEBF39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4E3-E217-4CA3-8DDE-A632FF1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EBD-5AFB-4F7D-A32A-8019C51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7FB-EFFF-4ED7-8832-4EAD7D8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2FF-06BB-4DAF-A6BB-4D13DACA7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countrie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34600">
            <a:off x="1263600" y="2334960"/>
            <a:ext cx="6781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Bulgaria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map of Bulg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04Z</dcterms:created>
  <dc:creator>lslibrary</dc:creator>
  <dc:description/>
  <dc:language>en-US</dc:language>
  <cp:lastModifiedBy>lslibrary</cp:lastModifiedBy>
  <dcterms:modified xsi:type="dcterms:W3CDTF">2009-05-14T17:54:43Z</dcterms:modified>
  <cp:revision>3</cp:revision>
  <dc:subject/>
  <dc:title>Bulgaria </dc:title>
</cp:coreProperties>
</file>