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BA3-16CD-42B7-A143-87894F97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AA8C-1812-446E-905E-51B35E0F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9A44-1789-4EDB-930F-198261EC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FFDA-988B-4A33-A6A1-07DBB84A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B74C-ACA7-4A5D-9E98-1973447D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86B4-2C16-4A3D-B11D-3F7DF10C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725E-BC85-4E69-85A2-281F8922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3FC-8852-4433-83DF-D5C3E5D3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43F8-A29E-4C2B-A784-EA12C84BE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1F53-5C41-4022-8536-E62B3376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030-2801-40DB-A4EA-FD723A4E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C4F-278D-4FB8-B218-B4E5A37B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DD35-F771-41D6-9E2C-10FADE643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gar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is Bru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y countries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34600">
            <a:off x="1263600" y="2334960"/>
            <a:ext cx="67816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p of Bulgaria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is a map of Bulg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4:04Z</dcterms:created>
  <dc:creator>lslibrary</dc:creator>
  <dc:description/>
  <dc:language>en-US</dc:language>
  <cp:lastModifiedBy>lslibrary</cp:lastModifiedBy>
  <dcterms:modified xsi:type="dcterms:W3CDTF">2009-05-14T17:54:43Z</dcterms:modified>
  <cp:revision>3</cp:revision>
  <dc:subject/>
  <dc:title>Bulgaria </dc:title>
</cp:coreProperties>
</file>