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B2A5-6EE1-4345-A205-E7917FAFB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8D7E-58E7-43C7-99AA-E71C5F9A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E095-9FCB-4CE1-A5AC-378EFA75E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4F42-7C55-4AA0-9D6A-1AF7856B9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DCBC-FB1F-4B13-916D-4800F7DD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4145-D4CD-456A-A279-547BB682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645E-A5FD-4A30-999E-FDF7776F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97BA-DEEC-4603-84C2-A7B51A93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96CF-BB91-4841-B94B-BEDA068D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D2C5-6C7C-43AC-8CBD-223ECAFA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E9F0-661C-4F6C-865C-6DF9A913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A527-8C42-4168-8851-1932C427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77F2-59F1-46D0-BC9F-7FDD90294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onelyplanet.com/destinationRedirector?ethylCobjId=272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al is Vie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Austria Flag, Austria's Flag, Austrias Flag, Austrian  Flag"/>
          <p:cNvPicPr/>
          <p:nvPr/>
        </p:nvPicPr>
        <p:blipFill>
          <a:blip r:embed="rId1"/>
          <a:stretch/>
        </p:blipFill>
        <p:spPr>
          <a:xfrm>
            <a:off x="2414520" y="1803240"/>
            <a:ext cx="4595760" cy="3063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lag of Aust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Map of Austr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1862280"/>
            <a:ext cx="5105160" cy="3833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p of Aust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sacher torte sacher cake cubes chocolate"/>
          <p:cNvPicPr/>
          <p:nvPr/>
        </p:nvPicPr>
        <p:blipFill>
          <a:blip r:embed="rId1"/>
          <a:stretch/>
        </p:blipFill>
        <p:spPr>
          <a:xfrm>
            <a:off x="2590920" y="213372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e favorite dessert the manner coffee c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4:10Z</dcterms:created>
  <dc:creator>lslibrary</dc:creator>
  <dc:description/>
  <dc:language>en-US</dc:language>
  <cp:lastModifiedBy>lslibrary</cp:lastModifiedBy>
  <dcterms:modified xsi:type="dcterms:W3CDTF">2009-05-06T14:41:00Z</dcterms:modified>
  <cp:revision>3</cp:revision>
  <dc:subject/>
  <dc:title>Austria</dc:title>
</cp:coreProperties>
</file>