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D15C-DD6F-4EBD-A17C-BA58A989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D18C-10F4-4065-BB84-4D89C6FD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A380-FDD2-4D8A-AE99-0C42897A1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CBDE-D05C-42AC-A1B7-E842398D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8AA9-8A9A-4ADE-9DFB-1918B10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FAE3-BDC1-47E9-9134-1444CF69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6E4-7513-40AB-B0BB-3E77BC06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606-F88B-4572-8E3E-662572D0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202-8B44-4484-A6D5-D75879E0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7D3-4DE4-46D3-A71B-7F83EB5F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1DA6-6AE4-44D6-884B-BF941926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6C5-E817-44C5-94E9-678ADB38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F155-FA69-4AA4-8C89-2E6D1E0D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onelyplanet.com/destinationRedirector?ethylCobjId=272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en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Austria Flag, Austria's Flag, Austrias Flag, Austrian  Flag"/>
          <p:cNvPicPr/>
          <p:nvPr/>
        </p:nvPicPr>
        <p:blipFill>
          <a:blip r:embed="rId1"/>
          <a:stretch/>
        </p:blipFill>
        <p:spPr>
          <a:xfrm>
            <a:off x="2414520" y="1803240"/>
            <a:ext cx="4595760" cy="3063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lag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Austr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862280"/>
            <a:ext cx="5105160" cy="3833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Aust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sacher torte sacher cake cubes chocolate"/>
          <p:cNvPicPr/>
          <p:nvPr/>
        </p:nvPicPr>
        <p:blipFill>
          <a:blip r:embed="rId1"/>
          <a:stretch/>
        </p:blipFill>
        <p:spPr>
          <a:xfrm>
            <a:off x="2590920" y="21337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ne favorite dessert the manner coffee c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10Z</dcterms:created>
  <dc:creator>lslibrary</dc:creator>
  <dc:description/>
  <dc:language>en-US</dc:language>
  <cp:lastModifiedBy>lslibrary</cp:lastModifiedBy>
  <dcterms:modified xsi:type="dcterms:W3CDTF">2009-05-06T14:41:00Z</dcterms:modified>
  <cp:revision>3</cp:revision>
  <dc:subject/>
  <dc:title>Austria</dc:title>
</cp:coreProperties>
</file>