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6875-D99A-4C66-8145-4E546D5B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871-5366-46CF-B0C2-084AF6AB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831-64CF-4FB6-9C7E-09980560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E03-B89E-471B-B516-AE572F21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C79-1D3F-4070-B2CE-B11D21A7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9DA-D887-446B-A809-D88EDBEC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763-E783-4DBD-9514-97335B7F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D07-3719-4264-B707-DB146B16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C93F-5416-4B2C-8BE5-675C55A9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3D7-5790-4791-B8BF-1192E84F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283-5531-4C48-9FAA-17EFCCF6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AF6-5034-44A0-AB72-C28895C1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6231-0354-404F-800D-53F8D028E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onelyplanet.com/destinationRedirector?ethylCobjId=27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Vi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Austria Flag, Austria's Flag, Austrias Flag, Austrian  Flag"/>
          <p:cNvPicPr/>
          <p:nvPr/>
        </p:nvPicPr>
        <p:blipFill>
          <a:blip r:embed="rId1"/>
          <a:stretch/>
        </p:blipFill>
        <p:spPr>
          <a:xfrm>
            <a:off x="2414520" y="1803240"/>
            <a:ext cx="4595760" cy="3063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lag of 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ap of Aust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862280"/>
            <a:ext cx="5105160" cy="3833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p of 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sacher torte sacher cake cubes chocolate"/>
          <p:cNvPicPr/>
          <p:nvPr/>
        </p:nvPicPr>
        <p:blipFill>
          <a:blip r:embed="rId1"/>
          <a:stretch/>
        </p:blipFill>
        <p:spPr>
          <a:xfrm>
            <a:off x="2590920" y="21337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favorite dessert the manner coffee c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4:10Z</dcterms:created>
  <dc:creator>lslibrary</dc:creator>
  <dc:description/>
  <dc:language>en-US</dc:language>
  <cp:lastModifiedBy>lslibrary</cp:lastModifiedBy>
  <dcterms:modified xsi:type="dcterms:W3CDTF">2009-05-06T14:41:00Z</dcterms:modified>
  <cp:revision>3</cp:revision>
  <dc:subject/>
  <dc:title>Austria</dc:title>
</cp:coreProperties>
</file>