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11D-4C93-4986-9225-7B460B978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384-605D-4A2A-8195-E9BCE6FA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6F5-2DC7-47BD-8AD9-94CC46AA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5099-DA4F-4F1B-B745-D957606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CA1B-2706-4242-A4F9-4A659EA6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1C3-4612-4FE6-A42C-B9B44D887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5AF-28EB-4C31-BCD0-8F04AF1D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BDA-20ED-46E3-A2D2-5D104905D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6CF-2187-4570-A14C-746FFF55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1A93-F210-4FCC-B939-96F8557B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D431-AF85-4104-BB71-8E072C4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628-A6AC-49C4-9805-D35C725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70ED-1538-4CF4-8831-91AD273B2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ethylCobjId=2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ustria Flag, Austria's Flag, Austrias Flag, Austrian  Flag"/>
          <p:cNvPicPr/>
          <p:nvPr/>
        </p:nvPicPr>
        <p:blipFill>
          <a:blip r:embed="rId1"/>
          <a:stretch/>
        </p:blipFill>
        <p:spPr>
          <a:xfrm>
            <a:off x="2414520" y="1803240"/>
            <a:ext cx="4595760" cy="3063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62280"/>
            <a:ext cx="5105160" cy="3833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acher torte sacher cake cubes chocolate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favorite dessert the manner coffee c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10Z</dcterms:created>
  <dc:creator>lslibrary</dc:creator>
  <dc:description/>
  <dc:language>en-US</dc:language>
  <cp:lastModifiedBy>lslibrary</cp:lastModifiedBy>
  <dcterms:modified xsi:type="dcterms:W3CDTF">2009-05-06T14:41:00Z</dcterms:modified>
  <cp:revision>3</cp:revision>
  <dc:subject/>
  <dc:title>Austria</dc:title>
</cp:coreProperties>
</file>