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53E3-B1DB-49E5-8243-132D4D05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0314-D837-43D0-AEA0-734209A2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6E6C-0665-46EE-85F7-44CC2152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45D8-6621-4297-96BB-23F869586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DB8-E76D-4E40-A3AE-237182DB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4BAC-D19F-45DD-B283-56E64CF4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3F9D-70D6-4E77-9ECC-1E60AE21A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06B-BA76-4ABA-9F4E-CFD4BA4E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E0F-2DCF-42CB-BE4B-5E541CAC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BB3-7FF3-40D6-AC14-0C9C84B7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EBC2-C45D-48C5-B43F-9D5FBBC1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8FE3-D922-4AEC-A345-4BEFC22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61D0-DED3-43CD-9D17-C975A8826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books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715000" y="4389480"/>
            <a:ext cx="2397240" cy="2468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848720" y="3505320"/>
            <a:ext cx="14475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660840" y="2336760"/>
            <a:ext cx="251136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like T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844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5132520"/>
            <a:ext cx="1825560" cy="1725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905120" y="2209680"/>
            <a:ext cx="54100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3Z</dcterms:created>
  <dc:creator>lslibrary</dc:creator>
  <dc:description/>
  <dc:language>en-US</dc:language>
  <cp:lastModifiedBy>lslibrary</cp:lastModifiedBy>
  <dcterms:modified xsi:type="dcterms:W3CDTF">2009-04-01T14:37:39Z</dcterms:modified>
  <cp:revision>3</cp:revision>
  <dc:subject/>
  <dc:title>Who steals books from the library?</dc:title>
</cp:coreProperties>
</file>