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B81-4D90-4E7A-A64B-D82B32E3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DF2-8D99-46B0-AB8E-1F42B32A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DB5-752C-4711-9B03-83ACF0F3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784-0471-4251-8C54-11882216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8A6-51B5-4A0D-8D24-2A9578DA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8DB-3314-4250-B91C-11382BB6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0D1-70D4-493B-8A9C-27A83FA9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5F8-B60C-437F-8C5C-093225F1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8D7-10CC-424C-9B5B-762772FB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618-AA1F-4153-A265-2B4B5EC9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00D-0746-4C44-A0A2-7D7555D2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8D7-A7C3-41B0-99FB-0E3DE106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FD7B-0EE5-49AC-8AF8-BE0A02026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steals books from the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715000" y="4389480"/>
            <a:ext cx="239724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848720" y="3505320"/>
            <a:ext cx="1447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can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ggy dog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60840" y="2336760"/>
            <a:ext cx="25113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Flower That does not like To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8440" y="51325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51325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905120" y="2209680"/>
            <a:ext cx="5410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13Z</dcterms:created>
  <dc:creator>lslibrary</dc:creator>
  <dc:description/>
  <dc:language>en-US</dc:language>
  <cp:lastModifiedBy>lslibrary</cp:lastModifiedBy>
  <dcterms:modified xsi:type="dcterms:W3CDTF">2009-04-01T14:37:39Z</dcterms:modified>
  <cp:revision>3</cp:revision>
  <dc:subject/>
  <dc:title>Who steals books from the library?</dc:title>
</cp:coreProperties>
</file>