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81C-5298-4DDA-B27C-F29AEAB0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5E5-4E12-45AE-8FBC-175A5083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33E-CC06-4175-BF4C-40CB5EA7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CE0-7394-4816-B146-89CE6ACD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E8F-440A-4D1E-9A25-256F6BEE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FC1-0B44-4DF2-9D92-F7B4CE24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E0B-436F-4E87-8A34-8487F48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D90-1E2B-4BB6-9C5F-6A69A216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C55-6A6E-45A4-B1AD-C85CC76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58A-7894-4C25-887D-FF0E1DEC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ADA-7922-4E37-BFB0-6514C8A0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460-6247-4138-B115-32CEC44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954F-36A1-4544-8DEB-869F9E12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books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15000" y="438948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848720" y="3505320"/>
            <a:ext cx="1447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60840" y="2336760"/>
            <a:ext cx="25113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like T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844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905120" y="2209680"/>
            <a:ext cx="5410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3Z</dcterms:created>
  <dc:creator>lslibrary</dc:creator>
  <dc:description/>
  <dc:language>en-US</dc:language>
  <cp:lastModifiedBy>lslibrary</cp:lastModifiedBy>
  <dcterms:modified xsi:type="dcterms:W3CDTF">2009-04-01T14:37:39Z</dcterms:modified>
  <cp:revision>3</cp:revision>
  <dc:subject/>
  <dc:title>Who steals books from the library?</dc:title>
</cp:coreProperties>
</file>