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EFE9-5105-4E82-9686-2799B545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C77-33BF-4004-A37F-656F28DB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A1D-86C6-4AB6-B852-5414B2E07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6A1-1549-487C-858F-D3BA8168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42ED-274B-4A78-825B-3DFA805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28BF-B341-4E2F-8CFB-FC02A352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6CF-1954-4CE9-B40B-A9087A9E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A0D-C5D5-4EA2-9B7C-7969C660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A8BD-9380-4FE2-BDF5-63A1DD78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4068-64B4-412F-98D1-599F3F99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B18-16DA-4879-B91B-7A38D5E8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97D-F21A-49E3-BE85-2A89CF1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6727-33CB-443D-95E2-EBCA44293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books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15000" y="438948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848720" y="3505320"/>
            <a:ext cx="1447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60840" y="2336760"/>
            <a:ext cx="25113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like T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844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905120" y="2209680"/>
            <a:ext cx="5410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3Z</dcterms:created>
  <dc:creator>lslibrary</dc:creator>
  <dc:description/>
  <dc:language>en-US</dc:language>
  <cp:lastModifiedBy>lslibrary</cp:lastModifiedBy>
  <dcterms:modified xsi:type="dcterms:W3CDTF">2009-04-01T14:37:39Z</dcterms:modified>
  <cp:revision>3</cp:revision>
  <dc:subject/>
  <dc:title>Who steals books from the library?</dc:title>
</cp:coreProperties>
</file>